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8658-76B2-4E42-A3A0-F173674D4C53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C380-065B-4519-AA09-E32084431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84C8-E2E3-4659-838D-3E7962BD4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05A8-F22A-4441-BEE3-C9A26AE99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2CCA-0058-459C-9593-6590D8CA1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1E1B-9FDF-4F78-9A18-DF4FB843A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9727-28D7-4624-8147-1046A9CDD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491D-E302-467A-B3CA-B56EBDA3A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7879-1872-4247-8064-E870CA043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341-A718-43BC-AADC-8C7AC1550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CA8B-E9FE-4FF6-A839-1790EE039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BBDF-81BB-4573-A98D-333580266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19A-97B3-4443-A4CC-D1EA255A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157-9F8B-4260-BE50-6A918ED3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AE6DD-3B23-47C6-A799-E5009DC9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E7E52-6748-4B6A-934D-F974A145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BC4C3-935F-4561-9350-5A7FD763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34808-4B89-42EC-A88A-22AD0CC4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78612-0C68-49EE-B3C7-59E88424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2FB2A-EA56-45A4-8A6C-86890A81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09056-21DC-4C47-8D49-F587E780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0576F-5447-4E8F-A9C4-0B8C539F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512DB-C20F-4DE4-BAA7-815ADA01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3F92F-AFD4-4E9E-ADBB-E4351281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A7A-09AD-4A2C-BC1A-846A241B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55058-C699-4528-965A-08172608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FCB6A-026D-4C0A-9C2D-1893ACB8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882B3-9776-4828-B884-6B530996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9B70A-CBE5-4DFB-B38F-00033C0E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CCF3A-DF9F-4CF5-954C-5BE72688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8F170-29B6-4121-9962-397EC140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32B50-8B14-4F03-B62F-072CE403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C129D-DAFF-402E-AD78-0C842E1D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44D11-493F-4528-A255-76BE44C4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D7602-BEAC-4B44-9DF2-DEDB1320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CE3-8B5D-48C6-8458-340A735E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8D02E-D391-4E6B-9D83-B1BAC462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EAC1C-0ACA-4C63-A2F0-D0E33F4F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CC8EA-A324-46DC-BFFF-D81D6F35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926F4-161A-4E3A-A2C0-ECE7400A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3D295-57F5-419A-83A1-56B36672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EB138-A547-4E19-AC4F-BA301686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55014-B5FE-45C3-8BCF-C6B004D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6CBD1-70CD-455B-B430-FB07B27F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B71A5-539F-4D51-9370-4986CA5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1337C-39D7-46DD-9D36-4A8785DF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B46C-20BE-4EE2-ADC3-DE9D8B32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334D0-491F-4783-BF5E-D597E0CE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A4140-5FCF-4E63-B2C7-773B6CD4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1CA5D-9863-4961-B88A-B54B06E9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C7803-7446-46C0-8029-4C4A27E3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AD58B-28F8-4D77-B3E4-B24259BE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F59EC-CD92-43C7-A791-DACEDC28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7B0AA-001E-4D12-9832-7E50C3D7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9CF4C-A041-4A5F-A3ED-511AC5E9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D6BE3-79FC-4972-AC72-CEFFA8E6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79422-5842-407B-B626-98BC9E69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D153-CE49-403F-8233-F6BA59C3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BEDB5-F4C3-49CF-BE69-031AECA4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7E8A9-93B4-4F79-A1CC-47351B10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53175-BBE5-45B0-9CDF-C07393A8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C018A-F0CF-43B3-BCC8-C3623278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BDCE4-B51A-4190-8B48-9EEA75BA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FE04FF-7FBD-469A-B039-87BF79C511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0979CB-6641-4190-B045-75830FCC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5DBB51-008D-4E9E-9699-2BB913D5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3D3C83-31DA-435A-A56C-F366D818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E2ACD8-A794-4499-B7FA-098AA121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617D-EE43-4090-81B8-AAFDF33D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3E9C8A-5DEA-4E7A-B128-4AB4DCA2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345234-7A56-44A4-963B-E24C9935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82F0A5-29C7-463B-A918-6C312337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B9C892-6B23-42CE-89AD-3FA73AB8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A47518-7B9A-430B-A4B1-203B079D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77DDDF-D364-4267-B7DB-DBF6C5CD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993C35-A567-4098-8B2F-7D539F1381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D90B-63CD-4593-95BE-65435358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6192-7760-4BAC-89EB-0AB4D467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480C-2195-4834-A1DD-ABDF2770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CC2F-71F8-48F8-AC69-3B033E76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A6C-FDEA-49D2-921C-9D7D9BFA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402E-563E-4D1F-BD65-66E444DB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383C-FFEE-464C-B152-C54E2DF4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12CE-D634-484E-8F59-0437F6D0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DF82-44FA-412F-8056-F0E03950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3657-0008-42CC-B8ED-4BD3112D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E2F77-65F7-4003-9B78-5F278E79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18A5-F2AC-4F06-BA11-0A842683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4C80-016C-4A9B-847F-675D803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ADD5-69E6-46F1-859E-117DD489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B950-AA2F-4396-9C50-856BA401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43D-7B27-4306-8715-1B19478B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685A-99A1-4F58-8CD3-3E79B5E7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BA9F-8F3E-40A5-A656-E604E9B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369E-78C8-4A16-9CB7-A6075B2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A506-BC38-4D19-9BA3-D2192632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309C-8F37-47F0-81A4-0B196E6D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09F5-2EAD-477A-B0E6-C1503887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F199-92D1-4088-A22F-7FB6B532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5935-8040-486D-BD97-F6B736BC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C891-9C9D-4913-B37F-4BBE1447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DC5E-DE49-408D-9DC2-360F3D88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24A-D969-4F9B-A246-B3526C0B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FBFC8-2A48-44EA-BCD6-A3D104A1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26315-FBB3-4128-8178-041A3113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CED3-543C-4227-9534-3E4C9468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ED1CF-000D-4775-B55E-3EDBBABD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1E0B-14A0-48AE-B165-4ADDA66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2F3C-A019-46A7-AF8E-3A1EE9B7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C0BB3-7355-43D1-AB28-08BEC518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A77F-882A-4679-AFCF-77AD56E4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19060-5797-4661-A2E2-CC63E0D6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F878-54FE-472D-8FED-F8DD6DCC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678-7683-4EE1-AA8D-B0E1220A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7CAF1-DCDD-49C6-A7B9-AD59B2C2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511D7-AADA-442C-9308-E4965E17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C1D92-C00E-4B38-A1DC-1084BC25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B8C84-1FF3-4DC1-875B-8CE2EFB3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B92EC-AACB-4C74-B449-892BF376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E0118-9A22-4EB9-A554-73E10223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DED28-287A-4518-A5FD-2FD19AE7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A64B-9AFF-4201-A571-F3D804D5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FFB7-0035-4DEA-AD4D-DC637507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C05EE-DD08-4E21-BDF8-7CD30864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526-5DB1-4B3A-8A1E-5FF3C91F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657B4-CD0C-45A8-A4A0-712EE5A3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FB04-9254-4083-923D-3F5BE08A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3FEDA-BB06-4ADB-ADDE-B741E223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8AEB6-AA2D-4BE3-B78E-31B61926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065D6-4DD5-4C47-8567-5E9F49CB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0687F-D272-4E66-9EF0-72CA6F17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0DDF4-C1E8-4357-89FE-5670E0DD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831F5-3EA1-43D9-A939-55DD131E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C4475-BE4B-4CC7-926C-F6AFE92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073A3-D278-4EAA-9095-37F7F25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4A1-BD11-4CF9-A0FE-72247774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7259F-1B87-4E6F-801F-15AB1214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F4DA8-0AB5-4B29-91B3-9F5EF019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C7747-64AC-44C2-BD59-6CA87CF8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CE34-3EFF-410F-A494-542FBF1A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2D6D2-BD40-4E38-BF7B-AAB27432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A5D8B-6675-42E2-A1F4-E960FC8B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21385-D5E0-44D0-8314-E86E4546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FCC50-9397-48F8-812F-4DE5870A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2022F-F87B-48CD-A989-4DAE33DD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A78A1-9D8F-4C20-9476-B7714ED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681-A4B9-444C-8C3E-D8785C7F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1D0D9-0C7F-4747-8983-2CC0F242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FD62A-C454-463E-A4CB-555414D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6C12D-9247-43D6-AEC5-14A275C4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DF59C-E9B1-4294-B52F-646EDFA2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BFDCD-5705-40CD-92BE-0763270A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D1819-45C7-41E7-ACA3-B351FC7C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3A293-934C-448F-94C8-5B3D0ED5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29355-1D43-451E-937D-F6AE2389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A514E-ABDA-4FD3-9AB6-2857E0A2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23A67-8CCB-4EAD-9CB3-D8E2FDFB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661-40C9-4E64-96A4-D88BE53E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65FA9-B209-4A11-B4BF-6382A6F4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EEFE8-CDA4-4032-90F6-0C878003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07847-241A-4BF8-A285-726938B4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7B17A-5382-4E4C-AEA8-1E25ED2A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C78EA-CB8C-4255-BEC0-A910A4B3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93925-22E6-4A69-B1B8-06F43BDC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E4C07-81EA-424D-BDE7-A3B5C4ED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E4DA2-41DC-49E2-85AF-68BFA14C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DF094-ABDE-4C60-8B56-FC2457BF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26147-3AD2-40A7-824F-9ACA2F4A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1ADB-4BBD-4D2F-A761-A02A1CD74D7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0C04-D3DD-4AD4-BDAD-6B5A0DCF38E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D5CC-2D1B-4C82-8545-899D3222506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7B1F-E6C8-4DE6-A54E-3D283DAC69D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DEBF-8D58-482A-8B89-41DED2E1F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4DB6-12C8-4F48-ADED-C2311A9E396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E8EF-CC95-4625-9CE5-DB2A6A03DF7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F26E-7C12-445B-861A-8FCA50084A0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3F43-ECB6-4B36-A531-0D31CD00347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FF5B-C890-4133-A8DA-4D364D6445C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6A59-CFD8-4ABC-B583-EACBACF6D98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EF5D-EA41-4281-981F-84DB90DC498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27B0-2142-41EC-8ED1-9009B7F561E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2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Η  δομή της σχολικής τάξη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αι διαμόρφωση περιβάλλοντο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1"/>
          <p:cNvSpPr/>
          <p:nvPr/>
        </p:nvSpPr>
        <p:spPr>
          <a:xfrm>
            <a:off x="1298520" y="2060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9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0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</a:t>
            </a: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6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1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2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ποιότητα του Σχολικού Χώρου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3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5.1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Η Σχολική τάξη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στο δημοτικό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0-09-27T09:12:55Z</dcterms:modified>
  <cp:revision>152</cp:revision>
  <dc:subject/>
  <dc:title>Παρουσίαση του PowerPoint</dc:title>
</cp:coreProperties>
</file>